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22EE1-4099-4D62-8222-EE19C59EBE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n’t a benefit of representative government the creation of other-regarding characters, and yet Mill suggests that you need these characters before you can have representative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vious cases, it is only the </a:t>
            </a:r>
            <a:r>
              <a:rPr b="0" i="1" lang="en-US" sz="1200" spc="-1" strike="noStrike">
                <a:solidFill>
                  <a:srgbClr val="000000"/>
                </a:solidFill>
                <a:latin typeface="Arial"/>
              </a:rPr>
              <a:t>position</a:t>
            </a:r>
            <a:r>
              <a:rPr b="0" lang="en-US" sz="1200" spc="-1" strike="noStrike">
                <a:solidFill>
                  <a:srgbClr val="000000"/>
                </a:solidFill>
                <a:latin typeface="Arial"/>
              </a:rPr>
              <a:t> of the rulers, not any of their particular qualities, that makes them superior forms of government; not so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y wouldn’t representative government succeed better at improving people’s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 uses this idea to justify British control over India and other colon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point here is not that these people had no great achievements to their names, but that they were not ready for representative government; they lacked the basic characters that would allow them to derive advantages of representative govern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 was a utilitarian, but he was not a fully classical utilitarian; his utilitarianism is unlike that of Bentham, for example. He distinguishes among different kinds of pleasures. He might be called an act-utilitarian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question of the best form of government “subjectiv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non-representative forms of government work through the structural position of an absolute ruler, not through his or her personal qualities, though in earlier times the occupant of such a position would have received a constant training in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is still representative government – what you want to do is to eventually be able to introduce representative government. And why is that? Because otherwise interests will not be properly promoted or protected, and characters will remain narrow and self-centered; human happiness will not be achiev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50F8E-9AC2-4345-9D4D-9C4A2101A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BBB1F-6EE7-4BF3-B5B5-5D9BD8888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52F1E-57DE-4B23-95DB-742CA78AF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20FC0-5B7F-4408-9E83-ADD3347A2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6399B-91DB-4DAA-A2B7-4A2F05D00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E952E-BDB3-410E-AA31-1727D879B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85636-CE68-45B0-AE64-DB4152F7B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F9ED5-F6D8-4B12-897B-D6C13823B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62F9B-A942-4D6B-9426-3F5DBA2B8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BB0CE-A89C-4B2A-908A-C939BE34D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7B162-4244-4F0D-B772-A0B18D426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E0016-3335-41A1-B60A-2E173BC41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FEBC-62B0-44B2-A8FE-E5A0D238BD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019920" y="609480"/>
            <a:ext cx="2714400" cy="333396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ill, Democracy and Empire</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2 September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roblem</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mes first, the chicken or the egg?</a:t>
            </a:r>
            <a:endParaRPr b="0" lang="en-US" sz="3200" spc="-1" strike="noStrike">
              <a:solidFill>
                <a:srgbClr val="000000"/>
              </a:solidFill>
              <a:latin typeface="Arial"/>
            </a:endParaRPr>
          </a:p>
        </p:txBody>
      </p:sp>
      <p:pic>
        <p:nvPicPr>
          <p:cNvPr id="69" name="" descr=""/>
          <p:cNvPicPr/>
          <p:nvPr/>
        </p:nvPicPr>
        <p:blipFill>
          <a:blip r:embed="rId1"/>
          <a:stretch/>
        </p:blipFill>
        <p:spPr>
          <a:xfrm>
            <a:off x="1403280" y="2349360"/>
            <a:ext cx="6048360" cy="312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roblem</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dern terms, Mill is saying that nation-building has to come before democracy, even though democracy may help nation-buil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are other forms of government better?</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people has a generally low level of culture, is greatly ignorant, or has a “defective” national charac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by foreigners or through the “happy accident of a monarch of geniu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are other forms of government better?</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l’s line of though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ative government is the ideal we should strive f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 cultures are prepared for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ultures can help by ruling those cultures that are not prepared for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t>
            </a:r>
            <a:r>
              <a:rPr b="0" i="1" lang="en-US" sz="2800" spc="-1" strike="noStrike">
                <a:solidFill>
                  <a:srgbClr val="000000"/>
                </a:solidFill>
                <a:latin typeface="Arial"/>
              </a:rPr>
              <a:t>should</a:t>
            </a:r>
            <a:r>
              <a:rPr b="0" lang="en-US" sz="2800" spc="-1" strike="noStrike">
                <a:solidFill>
                  <a:srgbClr val="000000"/>
                </a:solidFill>
                <a:latin typeface="Arial"/>
              </a:rPr>
              <a:t> they help? Is Britain’s government of India or New Zealand justifi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are other forms of government allowable?</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forms of government can be allowed only insofar as they make it possible for representative government to eventually take ro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civilized” peoples, only representative forms of government are ultimately allowable; for “barbarian” peoples, other forms of government are recommend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t>
            </a:r>
            <a:r>
              <a:rPr b="0" lang="en-NZ" sz="4400" spc="-1" strike="noStrike">
                <a:solidFill>
                  <a:srgbClr val="000000"/>
                </a:solidFill>
                <a:latin typeface="Arial"/>
              </a:rPr>
              <a:t>Barbarian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o are the barbaria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who are not ready for representative govern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ill thought native peoples in New Zealand and Australia, as well as the peoples of India and China, to be barbaria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evidence of their being barbarians is in part the lack of representative instit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Barbarian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s progress from the barbarian state possi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Yes, but also retrogression: the stages of civilization are not perman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uch progress can happen through purely internal developments in culture or through outside hel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rogress involves cultural learning</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t>
            </a:r>
            <a:r>
              <a:rPr b="0" lang="en-NZ" sz="4400" spc="-1" strike="noStrike">
                <a:solidFill>
                  <a:srgbClr val="000000"/>
                </a:solidFill>
                <a:latin typeface="Arial"/>
              </a:rPr>
              <a:t>Civilized” peopl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o are civilized peop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who are ready for representative government (even if they do not quite have it yet), having acquired the proper habits and been constituted into nations with a wide horizon of moral concer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is, however, always room for improv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Barbarian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are barbarians benefited by being ruled by a superior civilization? How s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uperior” civilization can accelerate the process of learning that takes you from one stage to the next by enlarging moral horizons (nation-building), creating the right habits of action, and so 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Barbarian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s intervention for this purpose justif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barbarian peoples do not have the right habits of character, they may not be trusted: they can harm others, including the interests of “civilized” na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ose cases, intervention may be justified; but only if you then rule the country in order to make it ready for representative gover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resentative government is ideally best</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lows people to protect and promote their interests, whatever those 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mproves people’s characters: makes them less self-interested and more interested in other people, more able to deal with complex problems, and otherwise enlarges their moral and intellectual horiz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nd, it’s the form of government better positioned to improve human happiness and achiev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Civilized” state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ontrast, is intervention into the affairs of civilized peoples justif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unless they directly attack another civilized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llels in the domestic case</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t>
            </a:r>
            <a:r>
              <a:rPr b="0" i="1" lang="en-US" sz="3200" spc="-1" strike="noStrike">
                <a:solidFill>
                  <a:srgbClr val="000000"/>
                </a:solidFill>
                <a:latin typeface="Arial"/>
              </a:rPr>
              <a:t>On Liberty</a:t>
            </a:r>
            <a:r>
              <a:rPr b="0" lang="en-US" sz="3200" spc="-1" strike="noStrike">
                <a:solidFill>
                  <a:srgbClr val="000000"/>
                </a:solidFill>
                <a:latin typeface="Arial"/>
              </a:rPr>
              <a:t> Mill argues th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be able to do as you wish, without interference, so long as your actions do not directly harm others: this is the ide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some people are not prepared to do this, e.g., children: they might harm themselves and oth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ernalistic intervention is indicated, even required, in those c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t there are better and worse forms of representative government</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ould the electoral system represent only the winners of ele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ould the electoral system represent everyone </a:t>
            </a:r>
            <a:r>
              <a:rPr b="0" i="1" lang="en-NZ" sz="2800" spc="-1" strike="noStrike">
                <a:solidFill>
                  <a:srgbClr val="000000"/>
                </a:solidFill>
                <a:latin typeface="Arial"/>
              </a:rPr>
              <a:t>equally</a:t>
            </a:r>
            <a:r>
              <a:rPr b="0" lang="en-NZ" sz="2800" spc="-1" strike="noStrike">
                <a:solidFill>
                  <a:srgbClr val="000000"/>
                </a:solidFill>
                <a:latin typeface="Arial"/>
              </a:rPr>
              <a:t>, regardless of the level of information, narrowness of interests, and general “mental capac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Better and worse representative government</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better representative govern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ould ensure that the qualifications of those in government are higher than aver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ould prevent the danger of narrowly self-interested legislation (“class legisla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Better and worse representative government</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does Mill think of what we now call “first past the post” electoral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do not represent all, only the winners in a particular constituency: they increase the chances of class legis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make it difficult for people of great qualifications to go into govern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olution is some form of proportional re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tter and worse representative governme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Mill think of the “one man, one vote” princi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its own, it just leads to class legislation and prevents the voices of the better educated from being hea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lution is plural voting: more votes for the better educ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Better and worse representative government</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re’s a tension betwe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ill’s faith in the character-building powers of representative government 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ill’s fear that representative government just leads to class legislation and the rule of the unqualifi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Is the question of the best form of government “subjective”?</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are other forms of government better?</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representative government would not be s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ome non-representative form of government would work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better create the kinds of characters necessary for representative government, i.e., characters who are generally law-abiding and show concern for other members of the commun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21:59:56Z</dcterms:created>
  <dc:creator>Full Name</dc:creator>
  <dc:description/>
  <dc:language>en-US</dc:language>
  <cp:lastModifiedBy>Full Name</cp:lastModifiedBy>
  <dcterms:modified xsi:type="dcterms:W3CDTF">2008-09-16T20:48:44Z</dcterms:modified>
  <cp:revision>4</cp:revision>
  <dc:subject/>
  <dc:title>Mill and Empire</dc:title>
</cp:coreProperties>
</file>